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BB2A-E284-4669-8429-CE7D41FE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ibusiness Entrepreneurship teacher could challenge her students by issuing a worksheet that involves estimations in the business world. She first would review how to use rounding as a strategy. Her goal is to improve students’ ability to predict results and check reasonableness of results that are related to accounting fundamentals of their self-developed busine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830D-28C4-4205-B893-8B23A1AE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123F-3538-4549-BAA3-CBBD52BA5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CC9E-5AE8-4C76-8023-2594757B24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90AFD-5571-4B04-98EB-AAEDA5C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003B-9BF2-4AB7-8223-E5C61242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A90BC-2708-4D86-B885-C4BDECE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7C076-8165-49B4-91D7-08886C89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2F6CF-099C-41E1-8549-E5E3A46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9D91F-C060-44C7-90F5-19628F67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531C2-98E2-4E0C-8CCA-36DF9F3C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EA55D-5C9E-4FF4-8815-976E90D1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75CBE-7527-4CB8-8DDF-B44FCFA2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B5C77-6A1E-47F1-AA35-8B0BFDFD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2864-18AD-4FAC-838D-B15FBBCDAD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B78EB-3A47-4661-9160-A31600E4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31021-682A-4B9B-9AB0-E71F8D0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FF224-0BFB-48C8-8673-C26E78BA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D10CB-4722-44FF-9FC5-1449D0C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3C634-53F2-421F-87C2-DF9C99E8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B6018-A307-4C3B-A0BE-FB61AE51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D8F7D-EC68-4E53-B5E6-82A8A73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03B3B-EDA0-4DC2-B29D-3AED1D5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4F365-52FB-40DE-A5AE-048D5FF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57913-5BF4-493C-8978-E9F0D22D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A8AE-E299-4558-B44E-495F529B630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A7F53-DBB3-416F-816B-EA32DC8B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C8061-E029-406B-84DB-9C3E5F9C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0861C-653F-4DE5-A656-5767FEF7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B2DDB-B0D5-4463-ADF5-492070FB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F365E-3C9F-46F2-BAA2-2C27895B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02D7A-4319-4C88-856C-69F07B0A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F98B1-1DB9-4C29-BAC2-5DCFF28E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59104-2C3E-479E-9667-2259505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BB343-4AA8-4815-930B-EF6919E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6CD3B-5AF8-49FD-9627-C85AE981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497-EC9E-4FE5-8E7D-011390AD4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09E9E-4389-41C1-8220-8AD26953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349EC-BE09-4E53-BAD0-B44F8207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41838-B253-4CC7-88CC-1878A24C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F0DC1-2F2E-4C1C-A410-F86219BD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3F4A5-A23C-4831-B780-2FF41393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608A-F6E4-4EA3-B12C-A187E9FC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86974-C4DB-4FEA-A2F9-FF077EC3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93342-5494-4CEB-AB2A-264F91BC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73B1-4885-4115-AAE0-ACFE9E34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7C1E-594B-4A89-9214-D32AE1D0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3A3-83D9-4210-80A3-DAA540C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9605C-A846-4584-8BB3-CC8E999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14F75-EEA0-4BEA-91D4-1062D5B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1DA66-16A5-4323-AD33-C47839BD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18804-ED10-46CA-BFC1-A482A616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4C538-DDD7-4DD8-A9E3-7D0DFD51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81C-588E-4CFE-9809-E66F03B0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C21-31D4-4E83-B386-DC436CC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869-62DE-4A9C-B357-AC0CBD43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9F1-C683-47A4-B6FD-4FFA296F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777-C245-4F9C-8AAB-896B113C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7AA9-3FEF-490F-A4B1-53BAAAD11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860-DED5-415D-B1FB-3831924C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85D-6BAF-4EBF-BEED-62B0F8AA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65A-EF58-4318-ABA3-44824016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F00-D327-4543-980A-B11A475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4AA-1470-4EE3-8292-AD3ADB762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ED6B-F801-4142-B44E-5B4521C6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FEF1-F961-4CF0-B446-E4207A5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3D58-CBFF-445A-B51B-39146802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C013-CD8E-4E3D-AD03-87192EF8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1B0D-7151-45D2-A6C2-5093F29F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3FEE-C278-4A23-BE13-C0B0E1BCA6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D608-53B7-4663-8A38-CD206132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BFE3-1769-4644-96E7-99BA93F9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A6AC-07E5-4446-86AE-8E8D13A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52BC-5BAE-45A7-8421-24B4F6C8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EBF6-FCEA-4F81-A73D-02AED50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8AFC-F462-47C9-835C-9CED04B8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2FD1-67A4-416B-B641-ED422558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15CB-12C2-4AB5-B5BF-D95A6BED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19BE-ADB3-4D85-AA2E-244C914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050A-DD87-4E1C-BF0E-42002B53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9E7F-4F6A-4E86-B95E-1A8654D71D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DF35-DBF2-41FA-BADE-AE168A8B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2527-3791-4F9E-8A93-92154F1C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CACE-4BD7-4543-BAC8-ABC2EE11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961F-C640-4C90-8438-0BB120F4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3A14-CE20-4865-B9B3-65AC300C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C5DB-340E-44B6-BCDD-5953280E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5BB2-3CF2-4BDF-9DC2-A583357C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BA32-BD3A-4CF9-87CA-02AA8E61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EDFD-F6FC-4AD4-B28E-ECBC4241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BE30-0D08-40A0-A80D-BB816A99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2FC4-966A-4607-BD57-B678700478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270D8-AE75-4358-9066-8890570C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3698-BB0D-49C8-AF0F-8B8C6CB4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786F-BB33-4DC7-B4DB-F1E5B27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E00A-7CC9-441F-991C-9D3240D7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E5BC-A0E4-49FF-ABDB-EB202FA6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E36B-8CF8-438C-8F9D-0D82494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C53B-CDE0-4D64-B5B5-BD7445A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DECA-825A-42D6-A843-E64C6E8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C4554-7AFA-44DC-AE65-F36605EB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BD30-1352-4D32-B3B8-7D7A8CE2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C25D-F429-4DB2-B8E7-287EABAF334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6793-8BD6-45A7-8474-5A6EC972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C1CC7-13AD-4DDE-B2A7-43B2040B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DFCF-9682-4679-AB95-CD76EF51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60A8F-DB49-49E6-8DB1-24129D48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0B8E-5102-4C1B-9F54-9F49A8BD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2E67-DC4A-4898-92A3-568A2609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B30D2-1A73-490F-AC0D-EBB2B86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006A-CE3A-41A1-B92C-DC597F8B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CCBD-3206-4550-8BD4-7EBE2FE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4476-168B-4D55-9F9F-553CFBA4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48E1-5429-43D3-ABBA-E7E5D15326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18FD5-D8FF-406A-B066-BA229CFA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32CF-40A2-4E08-8325-83FD4A64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D776-BFAE-4E27-AA08-D15D76DE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093EE-7A30-4950-8607-186A607E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A440E-2AF1-44F4-9336-68AED04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5C6C6-5A70-404F-9909-B55D65B1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25935-CC11-46B3-B4AC-9DA1B0F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A96F-0C83-40ED-9C50-DFE4BDFC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7D3EB-4DAD-438A-AE31-739D37B1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22608-F5A5-47CC-95A6-6839B4E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DF2D-947F-441A-93B3-89E3639EEDB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891D6-DDC5-4785-9740-A57E98A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270A8-75ED-48FD-B1B3-46C7755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79AEB-236E-41C7-A688-C9A4B15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4912B-4199-4FCA-BB44-9957D748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A7381-DDD1-498C-842E-4DBB8F75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56DA8-2748-4885-9EB3-6D64FDC5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7BB71-F24A-451E-BED8-0B7A112E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3DC22-5828-443C-8BB6-6981F8F0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AE8B2-FAEC-427B-B387-A7059F87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4B36D-DC46-45E4-AC9F-4AC6A30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734A-487B-4384-89D5-5C49B75B5E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9D0FC-1C20-423A-804B-6AF65873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497D-F707-4374-AC2E-1FBD4988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48527-84EC-43A6-A2AB-8010EF9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B7A2-093F-4C6E-9D52-2D09390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A21E2-7521-4840-AEB6-2E2B402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D3E2-609C-4721-8123-FC2BFD6D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89F4-128B-4294-80B8-0648A0FE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AA640-9E6E-42EF-AEDC-8E131C29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69042-6E5A-40FD-AFB1-64EB1202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1F10B-DBEE-4C52-9731-596DB03E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D2A7-596E-4066-8D28-EDBA3AF327B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979-8F74-45FE-B395-2CDFB7E384C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DE98-A6F9-4C96-BC44-6E2C8852221B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151-75F2-4666-B104-7DEA5FC4D3F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0410-A334-4073-906A-5C5FEB42558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1F6C-D00E-4114-948E-20B3AD56553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0460-AEE2-4C69-8CD4-CF3611E6DD5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61B5-399B-44F9-B30F-DA768EBCED8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2C3A-6BB9-4E6C-928D-90F1C6AD985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C061-A291-4A0D-878B-663FEC22E15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97E4-8336-4924-97AA-596F0273FFA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0E8C-27D4-4B6E-AB49-A2417C830F2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1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number to the right of the tens place is 6. Since that is greater than 5, round up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46 to the nearest tens place (46 = 50)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50 X 7 days per week = 35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No, it would not be possible to produce 500 jars in one week at that rat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works at a flower shop. They sell 7 bouquets of flowers per week for $19.54 each. Will the monthly income from flower bouquets be more than $400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$19.54 to the nearest tens place. The number to the right of the tens place is 9. Since that is greater than 5, round up. 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19.54 to the nearest tens place (19.54 = 20)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$20 X 7 days per week = $14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140 to the nearest tens place (140 = 150). They make $150 per week on flower bouquets. 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ultiply $150 per week times 4 weeks in a month to get monthly incom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50 X 4 = 60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 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es, 600 is greater than 400, so the monthly income from flower bouquets is greater than $400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plans to sell some of his own cattle. He plans to sell 22 head of steers for $987.12 each. Will his check be about $20,000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es. (20 X 1,000 = 20,000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works at a welding shop. They build 31 feed bunks per month and sell each for $197.99. Will the income from feed bunks after 6 months be about $36,000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es. (30 X 200 = 6,000; 6,000 X 6 = $36,000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gribusiness Entrepreneurship students use rounding as an estimation strategy to solve problems related to operating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gribusiness Entrepreneurship—E2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istinguish key accounting fundamentals to accomplish dependable bookkeeping and associated fil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velop production and agribusiness record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repare and interpret financial statements from a given set of financial information to include balance sheet, profit/loss statement, and cash flow statemen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N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use estimation strategies in problem situations to predict results and to check the reasonableness of results. (Analysis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Use rounding as an estimation strategy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ing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One type of estimation strateg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n be used to predict and check reasonableness of result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ing digi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When rounding to closest tens, rounding digit is second number to left (ten's place)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eps to rounding whole number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rounding digit and look to the right side of i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0, 1, 2, 3, or 4 do not change the rounding digi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5, 6, 7, 8, or 9, the rounding digit rounds up by one number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All digits on the right-hand side of the requested rounding digit will become 0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eps to rounding decima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rounding digit and look to the right side of it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4, 3, 2, or 1, drop all digits to the right of i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5, 6, 7, 8, or 9, add one to the rounding digit and drop all digits to the right of it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765.3682 becomes: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1000 when asked to round to the nearest thousand (1000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800 when asked to round to the nearest hundred (100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70 when asked to round to the nearest ten (10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 when asked to round to the nearest one (1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.4 when asked to round to the nearest tenth (10th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.37 when asked to round to the nearest hundredth (100th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.368 when asked to round to the nearest thousandth (1000th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has a pickle production business. They produce an average of 46 jars of pickles per day. Is it possible to produce 500 jars in one week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7-30T15:51:37Z</dcterms:modified>
  <cp:revision>12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274012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</vt:lpwstr>
  </property>
</Properties>
</file>